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A9D-56D9-474C-96E0-2AA0D231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635-F773-4244-9ED5-78EEE123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80E-CE6A-40C4-BC9B-88E5B937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F4C-CCFD-480F-9B7C-1128708A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CD60-17AA-4DAA-A571-7CF68DDC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6E8D-F40B-4365-B2C5-408A60DE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940C-34CB-4FDA-A393-23759B2D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1563-D43E-40A0-B8A4-842E78F5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9904-61D2-495F-AC1E-509AD86E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3E10-8A5A-4D78-8ACE-40724B70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BC32-51B7-4880-A60F-5965F908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770-EF85-438C-8CF2-F242C795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6F65-DE99-458F-AB33-E2DDC104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52F4-2F27-4F98-8FB6-EE6A6F5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4D5E-5FDF-4073-A300-B2F29817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1154-040E-4883-81C2-6EB6F6B9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99BE-A7C5-4454-9CF0-24B75C4E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882-8B43-42E1-B977-0C1C071B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775-7C53-43E2-A60F-407E397D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243F-74EC-4216-B558-E047E2B0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893-A43D-46FB-9A5E-8D11A934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189-AE62-4AC2-81DF-865F0C71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286-478E-496D-A305-EF57BBC6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969-6FDF-40A3-AC33-82A2F8E2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5C7C-5AFE-4C9E-80DD-017990C517D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604-C9AD-44E1-9830-519234A1F38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304920"/>
            <a:ext cx="8435880" cy="541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402000"/>
                </a:solidFill>
                <a:latin typeface="Times New Roman"/>
              </a:rPr>
              <a:t>VCE Information Technolog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402000"/>
                </a:solidFill>
                <a:latin typeface="Times New Roman"/>
              </a:rPr>
              <a:t>Unit 3: IT applications (ITA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402000"/>
                </a:solidFill>
                <a:latin typeface="Times New Roman"/>
              </a:rPr>
              <a:t>Unit 4: IT applications (ITA)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8153280" cy="631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3 - AREA OF STUDY 1 - Problem-solv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3 Outcome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apply project management and problem-solving strategies to produce a solution and an information product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using database management software, which meets the decision-making needs of a specific audienc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3 AOS 2 - Organisations: Networks and collaborative problem-solv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3 Outcome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design, create and evaluate a prototype website that meets an organisation's needs of sharing knowledge and collaborative problem-solving within a virtual team environment, an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explain the requirements of the networked information system that supports the use of this websit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0"/>
            <a:ext cx="8153280" cy="594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02000"/>
                </a:solidFill>
                <a:latin typeface="Times New Roman"/>
              </a:rPr>
              <a:t>Unit 4: IT applications (IT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4 AOS1 - Organisations and information nee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4 Outcome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spreadsheet software to solve an ongoing information problem, taking into account the information needs of an organisation, and evaluate the effectiveness of their problem-solving strategi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4 AOS2 - Data and information securit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02000"/>
                </a:solidFill>
                <a:latin typeface="Times New Roman"/>
              </a:rPr>
              <a:t>ITA Unit 4 Outcome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02000"/>
                </a:solidFill>
                <a:latin typeface="Times New Roman"/>
              </a:rPr>
              <a:t>Evaluate the effectiveness of the strategies used by an organisation to manage the storage, communication and disposal of data and information, and recommend improvemen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304920"/>
            <a:ext cx="8153280" cy="147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T Applications: Assessmen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3880" y="1397160"/>
          <a:ext cx="6096240" cy="43304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77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Unit 3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utcome 1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atabase sol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roject Man. Pla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utcome 2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0 Marks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304920"/>
            <a:ext cx="8153280" cy="147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T Applications: Assessment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3880" y="1397160"/>
          <a:ext cx="6096240" cy="4597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76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Unit 4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utcome 1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Spreadsheet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n Screen user doc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Visual Represent.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utcome 2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00 Marks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04920"/>
            <a:ext cx="8153280" cy="509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End of Year Examination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its 3 &amp; 4 contribute equally to exa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uration of 2 hou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it 3 contributes 25%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it 4 contributes 25%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xamination contributes 50%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a course outlin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7T00:19:34Z</dcterms:created>
  <dc:creator>VTEL CORP COLLABORATOR</dc:creator>
  <dc:description/>
  <dc:language>en-US</dc:language>
  <cp:lastModifiedBy>Kelvin Baird</cp:lastModifiedBy>
  <cp:lastPrinted>1999-12-25T11:24:43Z</cp:lastPrinted>
  <dcterms:modified xsi:type="dcterms:W3CDTF">2006-12-17T01:45:06Z</dcterms:modified>
  <cp:revision>10</cp:revision>
  <dc:subject/>
  <dc:title>Data and Information</dc:title>
</cp:coreProperties>
</file>